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3780257"/>
        <c:axId val="29769930"/>
      </c:barChart>
      <c:catAx>
        <c:axId val="5378025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9769930"/>
        <c:crosses val="autoZero"/>
        <c:auto val="1"/>
        <c:lblAlgn val="ctr"/>
        <c:lblOffset val="100"/>
        <c:noMultiLvlLbl val="0"/>
      </c:catAx>
      <c:valAx>
        <c:axId val="2976993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78025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286D-F1C2-425D-AA7C-3D32C62785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C1B6E-EAC4-4902-8F97-9C84DF29C1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DBD17-99DE-4B41-80C9-1DAA1135E7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4A018-2378-4A3E-8C72-82A518EBB5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BC963-CC5F-4A04-A036-42387B752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E3A29-C6C5-4199-A3AB-B1DA53AFF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CF5AD-959C-4AE2-A05E-01F28940DF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576F7-958F-4EEE-AAB2-8C4B81137C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E6D42-9284-48DA-B461-B308303D73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093A8-1917-49CA-B23D-A26DA8D8A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F6CF3-9D1D-440F-9508-F2BFCDA212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B35CB-D678-4313-834D-57FF8D266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19E8DDD-D841-4167-826D-CB5C836EF03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